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B233-9103-4EE9-8072-42C8A2DA4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A84A-50F5-40A3-BC42-19518E2C8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9375-78D5-4798-9386-6D1981E32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A492-7DAE-44BA-9651-3BABC75FD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0BC5-6A1C-4155-B447-9EE932189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6FFE-80FF-4C44-AE48-2B1D29C85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30E0-CA99-4CE5-8F95-F5D745788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E887-C360-4D71-9840-90BC03ABB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BCC3-2274-4EB4-98C4-80A2DB3CC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1528-98ED-4FFA-890B-05C8F0EB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737E-9F74-4B99-96CE-F9F51252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5367-CF20-4495-A3B5-3DF4D329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4F802-AB04-4AD3-B051-5B30076D8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ton’s Laws of 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j0286744"/>
          <p:cNvPicPr/>
          <p:nvPr/>
        </p:nvPicPr>
        <p:blipFill>
          <a:blip r:embed="rId1"/>
          <a:stretch/>
        </p:blipFill>
        <p:spPr>
          <a:xfrm>
            <a:off x="3124080" y="3505320"/>
            <a:ext cx="2286000" cy="21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ton’s 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Law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the law of inerti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Newton’s 1st La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4724280" y="1676520"/>
            <a:ext cx="40388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bject at rest remains at rest and an object in motion will stay in motion unless acted upon by another for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 ball will stay at rest unless someone kicks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0" y="0"/>
            <a:ext cx="8465040" cy="68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ertia:  objects want to keep doing wha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they were do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f they were moving, they keep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mov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f they were hanging out, the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keep hanging 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 takes a force to get them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ch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Inertia1larg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380880" y="60948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cks are in mo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Inertia2larg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457200" y="609480"/>
            <a:ext cx="4800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wagon stops, the blocks want to stay in mo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ton’s 2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La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Newton’s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a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rmul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an you change for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572000" y="533520"/>
            <a:ext cx="40384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4038480" y="1143000"/>
            <a:ext cx="51055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s force, mass, and accel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 = mass x accel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= m x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s : Newton or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the accelerati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ange the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elephant"/>
          <p:cNvPicPr/>
          <p:nvPr/>
        </p:nvPicPr>
        <p:blipFill>
          <a:blip r:embed="rId1"/>
          <a:stretch/>
        </p:blipFill>
        <p:spPr>
          <a:xfrm>
            <a:off x="0" y="990720"/>
            <a:ext cx="5541840" cy="55623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685800" y="2286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force will the man need to use if he wants to make the 1 kg elephant move at 5 m/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ton’s 3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La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Newton’s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a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4800600" y="1295280"/>
            <a:ext cx="40384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4648320" y="1523880"/>
            <a:ext cx="40384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very action there is equal and opposite re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 Billiards, bumper c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shotgun"/>
          <p:cNvPicPr/>
          <p:nvPr/>
        </p:nvPicPr>
        <p:blipFill>
          <a:blip r:embed="rId3"/>
          <a:stretch/>
        </p:blipFill>
        <p:spPr>
          <a:xfrm>
            <a:off x="5867280" y="3952800"/>
            <a:ext cx="2268720" cy="244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3 balloon"/>
          <p:cNvPicPr/>
          <p:nvPr/>
        </p:nvPicPr>
        <p:blipFill>
          <a:blip r:embed="rId4"/>
          <a:stretch/>
        </p:blipFill>
        <p:spPr>
          <a:xfrm>
            <a:off x="457200" y="2971800"/>
            <a:ext cx="300672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8T22:40:41Z</dcterms:created>
  <dc:creator>Jean Kavanagh</dc:creator>
  <dc:description/>
  <dc:language>en-US</dc:language>
  <cp:lastModifiedBy>Jean Kavanagh</cp:lastModifiedBy>
  <dcterms:modified xsi:type="dcterms:W3CDTF">2009-11-11T20:59:51Z</dcterms:modified>
  <cp:revision>9</cp:revision>
  <dc:subject/>
  <dc:title>Newton’s Laws of Motion</dc:title>
</cp:coreProperties>
</file>